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F8C-A214-4564-9509-151A6016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A45-D880-4F1D-96DE-4C45A224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F35-638B-4CB0-84F4-0F5DD5F1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155-9D59-4E10-A283-3C64521C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218-39E1-47C1-94EE-4291380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8D6-5ADE-465C-B713-4A5DFC6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867-58C2-4913-A377-EC1D1DE9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27B-CD9C-4081-973A-039B6865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ADE-94E5-4852-AF3D-9794A724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3EE-B0A5-44BD-9974-F701036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99A-F2C9-43A3-9755-5039A4A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02D-6EF3-4CBB-B319-C5635F5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9E4-8B51-41ED-B141-500393F9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76720" y="4365720"/>
            <a:ext cx="121896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ze (co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pe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724280" y="4343400"/>
            <a:ext cx="106704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lk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ne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c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83818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4-30-12    *No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0" y="380880"/>
            <a:ext cx="8915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3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ake two columns on your focus sheet and type in each food’s origin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D World (Eastern Hemisphe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World (Western Hemisphere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ShipsSetSailForBelfastMaritimeFestival18May06"/>
          <p:cNvPicPr/>
          <p:nvPr/>
        </p:nvPicPr>
        <p:blipFill>
          <a:blip r:embed="rId1"/>
          <a:stretch/>
        </p:blipFill>
        <p:spPr>
          <a:xfrm>
            <a:off x="6981840" y="1905120"/>
            <a:ext cx="2162160" cy="2904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landing_of_columbus_1"/>
          <p:cNvPicPr/>
          <p:nvPr/>
        </p:nvPicPr>
        <p:blipFill>
          <a:blip r:embed="rId2"/>
          <a:srcRect l="0" t="2818" r="14816" b="0"/>
          <a:stretch/>
        </p:blipFill>
        <p:spPr>
          <a:xfrm>
            <a:off x="0" y="4686480"/>
            <a:ext cx="2825640" cy="217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GEM_corn"/>
          <p:cNvPicPr/>
          <p:nvPr/>
        </p:nvPicPr>
        <p:blipFill>
          <a:blip r:embed="rId3"/>
          <a:stretch/>
        </p:blipFill>
        <p:spPr>
          <a:xfrm>
            <a:off x="6705720" y="5240160"/>
            <a:ext cx="2438280" cy="161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sun"/>
          <p:cNvPicPr/>
          <p:nvPr/>
        </p:nvPicPr>
        <p:blipFill>
          <a:blip r:embed="rId4"/>
          <a:stretch/>
        </p:blipFill>
        <p:spPr>
          <a:xfrm>
            <a:off x="8385120" y="0"/>
            <a:ext cx="758880" cy="758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38080" y="1523880"/>
            <a:ext cx="1219320" cy="27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pe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lk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105520" y="1523880"/>
            <a:ext cx="1218960" cy="249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ze (co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ne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c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819520" y="3962520"/>
            <a:ext cx="373356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fornian FB"/>
              </a:rPr>
              <a:t>? ? ? New World or Old World ? ?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16" descr=""/>
          <p:cNvPicPr/>
          <p:nvPr/>
        </p:nvPicPr>
        <p:blipFill>
          <a:blip r:embed="rId5"/>
          <a:stretch/>
        </p:blipFill>
        <p:spPr>
          <a:xfrm>
            <a:off x="1968480" y="2382840"/>
            <a:ext cx="33051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age019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20:14:18Z</dcterms:created>
  <dc:creator>poweruser</dc:creator>
  <dc:description/>
  <dc:language>en-US</dc:language>
  <cp:lastModifiedBy>poweruser</cp:lastModifiedBy>
  <dcterms:modified xsi:type="dcterms:W3CDTF">2012-04-29T18:09:11Z</dcterms:modified>
  <cp:revision>7</cp:revision>
  <dc:subject/>
  <dc:title>Slide 1</dc:title>
</cp:coreProperties>
</file>